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 id="28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slide" Target="slides/slide2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5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1"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move the slide</a:t>
            </a:r>
            <a:endParaRPr b="0" lang="en-US" sz="4400" spc="-1" strike="noStrike">
              <a:solidFill>
                <a:srgbClr val="515f7b"/>
              </a:solidFill>
              <a:latin typeface="Tahoma"/>
            </a:endParaRPr>
          </a:p>
        </p:txBody>
      </p:sp>
      <p:sp>
        <p:nvSpPr>
          <p:cNvPr id="58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84"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5"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140D-216D-47C3-A267-153318E087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C3121-5169-4522-B718-0038CF4D078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3E1C2-1280-489E-B091-0F431880DA8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B5318-72FC-44AA-BE84-8E8EFD904AF7}"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2002D-DAB0-4660-9BC2-2061D6938EE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73960-8E89-423C-A67B-9803A8C3CA3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A7F73-A31E-41C4-B3C6-0F8EFAAFEBC0}"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F4BB6-1AF8-45CA-BE4A-6FB56FE755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43777-C544-4ABB-B29B-378336637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ACA53E-707C-4289-8488-81B1132E5B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9724E7-99FE-4DF6-9AEB-FFE4FAE1C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90B83E-66A2-4AAA-B244-CC4D18B499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746335-1A85-4414-A7F5-9BA65787271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1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22816-3BF2-4CF9-92E7-341653225C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3F8B44-DC3B-426E-9B72-355FAA26FA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640CD6-5F3B-477C-8095-C6ED3427FF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5EB8890-DE1B-4F10-8E61-8CE2D0950A0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1302AF-63AF-49CB-B161-0B5747A784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F236F4-C23B-4AFA-925D-3CA9BCDA0C4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08E80-7806-46E5-81F5-6328326CF9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E7C313E-7AF5-42C1-81F4-4068FE9A8D4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625778F-FF3A-4F5E-A7D3-FB3C9ED7DE6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6CA2AF-6A31-4249-ADF5-2486EF03175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F5EF40-E756-4C5C-BF78-03A94B4DDFF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011677-9F02-4B9F-9804-A4EF733C196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3EAFAA-39FF-45DD-B445-9BBB3EDA10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81AC62-6864-4DBA-BFEE-A3D8FD9FA9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DCE7AF4-E3F6-4DFD-BDA3-89192306CD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1E4BF73-953A-47B3-A320-F5D52868F3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5AD3B2-52B0-49C4-B2BF-FAAFE453369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326A9-9863-41D2-8167-270BAA33EB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1B93F03-8ACC-47C8-A13E-B83B9B18FAC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02F4E7C-5CAC-433A-AAB5-20123BD879E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9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8BA038F-ADFD-4A1D-A139-725DF20B3A6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9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E6B8800-FE02-4DAC-8080-798E5D428B4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24706CA-A39D-4249-BD28-682CCEFDADB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DC0017D-5FA5-4568-A2AD-82E11F3C1D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DD9D71-198E-4CFB-8295-208C26DC46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B8385D-2B59-4168-892A-B5898A1F76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0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92218F-89C9-41AE-984D-9ECCC1CB6F7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606352-CC22-4821-9B33-88AECBB1C6C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1CCC34-4826-4689-A93C-1864697C69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1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4A22E5F-14A0-4FA7-A072-081BF57D7A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2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EF3DA40-09EA-47A0-A66E-6F34CB53C99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2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3B76389-D82E-4FE3-BBD5-9B69C1091837}"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2D7A71B-66DA-4F0E-ADE7-67E68227BC4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AE56BD6-9BDB-4840-B9E5-C0E1B7D5E6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887BAA-4342-4457-AC12-0BEC607439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4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E21071F-5EEF-41CB-9EFC-DE8CF44446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467DF2-1FB1-4D27-BF21-0F86D85F7F7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0EFC136-FD87-4193-9372-303793CFD5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5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F953ED2-AAE0-4BD5-BAB5-736C1887B6A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98635-77E2-4E81-A0FD-C48C80F58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5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8FF4B5B-23D0-4D5F-8436-CEFBDF45069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206C9E4-447E-4EAF-BA0F-A4DFDECC68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4E8E162-D71F-4B84-86CD-81B170A670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6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D324A86-A84B-4E14-85BC-6B9438E80A5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57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7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B28FB0-0DC0-4CEA-BBF1-5A956B227BF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7892B4-43BA-44EA-BF94-E70C2E76A9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FA8589-878B-4614-98FC-965DDAF459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533E1-5E25-46C3-BAE9-12B35DDCC5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1FF99-1077-4BAD-AECB-08B1B2B995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31388-3E11-4690-8702-643389A17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92057-58F4-4036-918C-DE6AD7C9B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638E5A-AD40-4E80-AFEB-D8706E9DE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7A5CE1-9B26-41F7-97F5-4BC5165C4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A1FD7C-8312-4581-BD30-0A738FC88F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3A6E15-B8AC-4FEC-A695-3EB7661B5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01E53C-BD0E-4692-B41E-93F7AF9ACB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05AC07-6A0D-4AFC-92D1-060F55D712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8A2BAD-371A-4716-B2E2-01879768EC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125CD3-BEF7-426B-AC50-4949E703CD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1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282B13-84FB-4DED-ABA0-4F40FEE71F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1ADE7-8EC3-4AD6-9485-2AD8C76136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AB346D-FAF0-41A3-9156-4292704BF9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74FC0F-4A09-4744-A770-C8F1EC75AD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1C7A30-8E82-47AC-A938-2E7AE552B0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920F9A-76C5-495D-8267-51761E97AD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2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60B14-AC67-48F2-BC5C-5999511B0C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A502BB8-49F7-4157-AD33-98738D37CE2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3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10BFF8-2641-44EF-9242-02884ED540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4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6F08640-BF2C-49F0-BF26-1FFB0D341D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489EB-07A2-4903-829D-B8A65350404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1421E8-AD45-4419-9280-A202211F31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44DC48-AE85-4A0B-8A09-4255A6ABF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B67AD-DB32-47EB-8650-25F8C9568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330FEC-4075-408F-BC6F-AC7FA722A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59D3B4-1957-4251-AB63-FB6ECD706E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4194DB-07D7-4276-B1E4-73D4127914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5F0D9D-08DE-4E20-AB9D-5371D12AA2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9F6DDD-6295-4EAE-89C6-4BC9BDFD84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7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AD8101-D6EC-4B69-BD9F-9DBC57BA4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AC0504-BD2B-4BAC-9859-0B1A55FD48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A0EA08-CB3B-47F6-8B75-91D6CD5507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18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AD55C4-1321-4872-815D-55DD2CB5D9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150CD5-14B3-4468-87C0-F3D00498A0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B32B4F-CF2F-4E5C-895A-E7CA56BFD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0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76DCCA-98CA-47E7-A475-33E794E44F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B49BB-9B8C-4600-8B4C-9E9C73FB79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0CFC1F-C6C5-4721-924F-595BD2DCD6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756D96-0130-4483-AF0F-7417BE59C6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52DADD-7169-472A-99B2-988AFD249C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1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4077E7-4109-48FE-9EB7-27CE4572E3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8DDCA5-E73D-4F44-A866-D59EC0408B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6CD98-CC4E-4435-9A02-0BCEE45E94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6F979F-BBBD-4489-8D3B-FF14594938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3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225508-807E-4973-B86D-D4A8BAB8074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F6987-193F-4613-863D-0EE309899E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3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69FE8C-B340-4E25-9724-E3AA301CCB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B79CBE-5AAB-43BF-A06E-C767DBF60A0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56"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578ED9-1ADA-4658-BACB-24A4DEE495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5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269A4-86E6-4CBF-8013-23C9CBCF94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D2E25F-13F2-477A-86AA-00D5BDEAD8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299E24-AEC6-4D34-AE22-32A084BD7E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07002E-D1DD-4A89-8D52-23E4F69AB1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09A708-8022-4811-A61D-40A6A8C302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1"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B1D8E6-0994-4339-9DE4-D999B7BE932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5"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C41B0-6047-4303-AAD6-EF7FF6A9AF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C9D29-A476-4C92-B5C1-D68120447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77"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8"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D0FDC7-1EF2-4FCB-AD14-3FA7BD22D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3"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4030BF-1E3B-48D6-BB9C-4BD9DB2D21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85"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6"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7"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8"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9"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0"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79D874-DBE9-4F7C-8095-A3D8402367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BFD315-C01E-4EF2-B3BB-EE5B70925D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F25FEC-A580-4243-9FD6-C4807F9F60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83179D-A6B2-49BD-AC5E-DFCA09797C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20CBB6-9977-408E-8DF1-A4BFC226E6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925360-F582-42E9-BF38-1A1BDF72B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C0E0E5-50D5-42AD-B6A9-245256644D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1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DF236-1013-420D-A302-D556A768E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34E4E-14F9-4164-AB40-AC0BC986E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83EFD7-9AE4-4784-B665-B14A5902D8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450DA7-D395-4E04-942C-E5FBFBAC42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192646D-D9EB-46E8-89E2-B6B7FB8AD4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2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1EF8F-D36E-48F8-89F6-EF7F99721C2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3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BDA2C3-4AD4-4540-B55D-A83E3AEDD5C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256CCC-22DE-4A9F-8A4B-AC13E9A9FD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2"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03EB9F-AB96-4BA4-BC40-B6E1F83E02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9EC577-27D0-4B3C-A920-F60DF10CA9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5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430CDF-21AF-4833-A026-3AA1E12E3A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E727BB1-B23C-4B2D-BF3F-E213AC90D1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4EA889-51B3-4869-852D-E19ACB627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5A3CC8F-EE98-4542-A75A-8BB7CC7CF8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96FC2-EE79-4B7C-A8C0-544A2AFCC4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7"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24EAFF-5E46-4D3F-ADEE-90A944E710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6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1"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28388-7078-494B-9930-6013F140DC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3"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4"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82061-5960-485A-B271-152BF792C6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7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9"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A69D0D6-2384-41A8-ACD2-7E9A522534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381"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2"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3"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4"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5"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6"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512D47-73C9-452B-A502-A457A97890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A4CC32D-E39C-40A2-90FF-5594A1660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4B2C9-6355-4A55-A6F0-005DD5793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15f7b"/>
              </a:solidFill>
              <a:latin typeface="Tahoma"/>
            </a:endParaRPr>
          </a:p>
        </p:txBody>
      </p:sp>
      <p:sp>
        <p:nvSpPr>
          <p:cNvPr id="40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AD0CE3-4519-4462-99A7-C118FB0E8A9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huttho@csun.edu</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3308-4FDD-481F-B341-8D2A879A4E9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6"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7"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8"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0"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1"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4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4" name="PlaceHolder 3"/>
          <p:cNvSpPr>
            <a:spLocks noGrp="1"/>
          </p:cNvSpPr>
          <p:nvPr>
            <p:ph type="dt" idx="28"/>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5" name="PlaceHolder 4"/>
          <p:cNvSpPr>
            <a:spLocks noGrp="1"/>
          </p:cNvSpPr>
          <p:nvPr>
            <p:ph type="ftr" idx="29"/>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46" name="PlaceHolder 5"/>
          <p:cNvSpPr>
            <a:spLocks noGrp="1"/>
          </p:cNvSpPr>
          <p:nvPr>
            <p:ph type="sldNum" idx="30"/>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1BB70-550E-4145-B155-D1C93E3C8CF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4"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5"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6"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7"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8"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89"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49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92" name="PlaceHolder 3"/>
          <p:cNvSpPr>
            <a:spLocks noGrp="1"/>
          </p:cNvSpPr>
          <p:nvPr>
            <p:ph type="dt" idx="3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3" name="PlaceHolder 4"/>
          <p:cNvSpPr>
            <a:spLocks noGrp="1"/>
          </p:cNvSpPr>
          <p:nvPr>
            <p:ph type="ftr" idx="3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94" name="PlaceHolder 5"/>
          <p:cNvSpPr>
            <a:spLocks noGrp="1"/>
          </p:cNvSpPr>
          <p:nvPr>
            <p:ph type="sldNum" idx="3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F58C6-0582-4D2D-A18C-C8BDB371BAC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2"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3"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4"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5"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6"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7"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3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53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40" name="PlaceHolder 3"/>
          <p:cNvSpPr>
            <a:spLocks noGrp="1"/>
          </p:cNvSpPr>
          <p:nvPr>
            <p:ph type="dt" idx="34"/>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1" name="PlaceHolder 4"/>
          <p:cNvSpPr>
            <a:spLocks noGrp="1"/>
          </p:cNvSpPr>
          <p:nvPr>
            <p:ph type="ftr" idx="35"/>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2" name="PlaceHolder 5"/>
          <p:cNvSpPr>
            <a:spLocks noGrp="1"/>
          </p:cNvSpPr>
          <p:nvPr>
            <p:ph type="sldNum" idx="36"/>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AB646-4EC8-48C7-BAA8-9E5BA65D6DF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2D3A2-14B0-426D-89AD-475D2D44CBFF}" type="slidenum">
              <a:rPr b="0" lang="en-US" sz="1400" spc="-1" strike="noStrike">
                <a:solidFill>
                  <a:srgbClr val="80808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0"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1"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5"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10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8" name="PlaceHolder 3"/>
          <p:cNvSpPr>
            <a:spLocks noGrp="1"/>
          </p:cNvSpPr>
          <p:nvPr>
            <p:ph type="dt" idx="7"/>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PlaceHolder 4"/>
          <p:cNvSpPr>
            <a:spLocks noGrp="1"/>
          </p:cNvSpPr>
          <p:nvPr>
            <p:ph type="ftr" idx="8"/>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0" name="PlaceHolder 5"/>
          <p:cNvSpPr>
            <a:spLocks noGrp="1"/>
          </p:cNvSpPr>
          <p:nvPr>
            <p:ph type="sldNum" idx="9"/>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B1BA-696C-43F2-A9EA-E8E26DE8BC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8"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9"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0"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1"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2"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3"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15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56" name="PlaceHolder 3"/>
          <p:cNvSpPr>
            <a:spLocks noGrp="1"/>
          </p:cNvSpPr>
          <p:nvPr>
            <p:ph type="dt" idx="10"/>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7" name="PlaceHolder 4"/>
          <p:cNvSpPr>
            <a:spLocks noGrp="1"/>
          </p:cNvSpPr>
          <p:nvPr>
            <p:ph type="ftr" idx="11"/>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5"/>
          <p:cNvSpPr>
            <a:spLocks noGrp="1"/>
          </p:cNvSpPr>
          <p:nvPr>
            <p:ph type="sldNum" idx="12"/>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0B7D-E89B-4FFA-BBE3-6370481655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7"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8"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9"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0"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1"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0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04" name="PlaceHolder 3"/>
          <p:cNvSpPr>
            <a:spLocks noGrp="1"/>
          </p:cNvSpPr>
          <p:nvPr>
            <p:ph type="dt" idx="13"/>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5" name="PlaceHolder 4"/>
          <p:cNvSpPr>
            <a:spLocks noGrp="1"/>
          </p:cNvSpPr>
          <p:nvPr>
            <p:ph type="ftr" idx="14"/>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06" name="PlaceHolder 5"/>
          <p:cNvSpPr>
            <a:spLocks noGrp="1"/>
          </p:cNvSpPr>
          <p:nvPr>
            <p:ph type="sldNum" idx="15"/>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8E7FA-D44F-448B-95DA-808FE7757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5"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6"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7"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8"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51"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52" name="PlaceHolder 3"/>
          <p:cNvSpPr>
            <a:spLocks noGrp="1"/>
          </p:cNvSpPr>
          <p:nvPr>
            <p:ph type="dt" idx="16"/>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3" name="PlaceHolder 4"/>
          <p:cNvSpPr>
            <a:spLocks noGrp="1"/>
          </p:cNvSpPr>
          <p:nvPr>
            <p:ph type="ftr" idx="17"/>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4" name="PlaceHolder 5"/>
          <p:cNvSpPr>
            <a:spLocks noGrp="1"/>
          </p:cNvSpPr>
          <p:nvPr>
            <p:ph type="sldNum" idx="18"/>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E04CC-9F92-4E00-9465-482FE1D14B8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2"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3"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4"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5"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6"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7"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29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00" name="PlaceHolder 3"/>
          <p:cNvSpPr>
            <a:spLocks noGrp="1"/>
          </p:cNvSpPr>
          <p:nvPr>
            <p:ph type="dt" idx="19"/>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PlaceHolder 4"/>
          <p:cNvSpPr>
            <a:spLocks noGrp="1"/>
          </p:cNvSpPr>
          <p:nvPr>
            <p:ph type="ftr" idx="20"/>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2" name="PlaceHolder 5"/>
          <p:cNvSpPr>
            <a:spLocks noGrp="1"/>
          </p:cNvSpPr>
          <p:nvPr>
            <p:ph type="sldNum" idx="21"/>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2A5EA-EA44-4047-97AE-ACC43241B1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0"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1"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2"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3"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4"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5"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347"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48" name="PlaceHolder 3"/>
          <p:cNvSpPr>
            <a:spLocks noGrp="1"/>
          </p:cNvSpPr>
          <p:nvPr>
            <p:ph type="dt" idx="22"/>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4"/>
          <p:cNvSpPr>
            <a:spLocks noGrp="1"/>
          </p:cNvSpPr>
          <p:nvPr>
            <p:ph type="ftr" idx="23"/>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0" name="PlaceHolder 5"/>
          <p:cNvSpPr>
            <a:spLocks noGrp="1"/>
          </p:cNvSpPr>
          <p:nvPr>
            <p:ph type="sldNum" idx="24"/>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F1A20-9581-46D9-A659-584A5DA2C4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Rectangle 2"/>
          <p:cNvSpPr/>
          <p:nvPr/>
        </p:nvSpPr>
        <p:spPr>
          <a:xfrm>
            <a:off x="417600" y="1098720"/>
            <a:ext cx="438120" cy="4744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8" name="Rectangle 3"/>
          <p:cNvSpPr/>
          <p:nvPr/>
        </p:nvSpPr>
        <p:spPr>
          <a:xfrm>
            <a:off x="800280" y="1098720"/>
            <a:ext cx="328320" cy="474480"/>
          </a:xfrm>
          <a:prstGeom prst="rect">
            <a:avLst/>
          </a:prstGeom>
          <a:gradFill rotWithShape="0">
            <a:gsLst>
              <a:gs pos="0">
                <a:srgbClr val="c0c0c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9" name="Rectangle 4"/>
          <p:cNvSpPr/>
          <p:nvPr/>
        </p:nvSpPr>
        <p:spPr>
          <a:xfrm>
            <a:off x="541440" y="1521000"/>
            <a:ext cx="422280" cy="474480"/>
          </a:xfrm>
          <a:prstGeom prst="rect">
            <a:avLst/>
          </a:prstGeom>
          <a:solidFill>
            <a:srgbClr val="eceaa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Rectangle 5"/>
          <p:cNvSpPr/>
          <p:nvPr/>
        </p:nvSpPr>
        <p:spPr>
          <a:xfrm>
            <a:off x="911160" y="1521000"/>
            <a:ext cx="368280" cy="474480"/>
          </a:xfrm>
          <a:prstGeom prst="rect">
            <a:avLst/>
          </a:prstGeom>
          <a:gradFill rotWithShape="0">
            <a:gsLst>
              <a:gs pos="0">
                <a:srgbClr val="eceaa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1" name="Rectangle 6"/>
          <p:cNvSpPr/>
          <p:nvPr/>
        </p:nvSpPr>
        <p:spPr>
          <a:xfrm>
            <a:off x="127080" y="1447920"/>
            <a:ext cx="560160" cy="422280"/>
          </a:xfrm>
          <a:prstGeom prst="rect">
            <a:avLst/>
          </a:prstGeom>
          <a:gradFill rotWithShape="0">
            <a:gsLst>
              <a:gs pos="0">
                <a:srgbClr val="ffffff"/>
              </a:gs>
              <a:gs pos="100000">
                <a:srgbClr val="91afbf"/>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2" name="Rectangle 7"/>
          <p:cNvSpPr/>
          <p:nvPr/>
        </p:nvSpPr>
        <p:spPr>
          <a:xfrm>
            <a:off x="762120" y="990720"/>
            <a:ext cx="31680" cy="10522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3" name="Rectangle 8"/>
          <p:cNvSpPr/>
          <p:nvPr/>
        </p:nvSpPr>
        <p:spPr>
          <a:xfrm>
            <a:off x="442800" y="1781280"/>
            <a:ext cx="8226360" cy="31680"/>
          </a:xfrm>
          <a:prstGeom prst="rect">
            <a:avLst/>
          </a:prstGeom>
          <a:gradFill rotWithShape="0">
            <a:gsLst>
              <a:gs pos="0">
                <a:srgbClr val="808080"/>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Click to edit the title text format</a:t>
            </a:r>
            <a:endParaRPr b="0" lang="en-US" sz="4400" spc="-1" strike="noStrike">
              <a:solidFill>
                <a:srgbClr val="515f7b"/>
              </a:solidFill>
              <a:latin typeface="Tahoma"/>
            </a:endParaRPr>
          </a:p>
        </p:txBody>
      </p:sp>
      <p:sp>
        <p:nvSpPr>
          <p:cNvPr id="395"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515f7b"/>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80808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eceaa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96" name="PlaceHolder 3"/>
          <p:cNvSpPr>
            <a:spLocks noGrp="1"/>
          </p:cNvSpPr>
          <p:nvPr>
            <p:ph type="dt" idx="25"/>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7" name="PlaceHolder 4"/>
          <p:cNvSpPr>
            <a:spLocks noGrp="1"/>
          </p:cNvSpPr>
          <p:nvPr>
            <p:ph type="ftr" idx="26"/>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8" name="PlaceHolder 5"/>
          <p:cNvSpPr>
            <a:spLocks noGrp="1"/>
          </p:cNvSpPr>
          <p:nvPr>
            <p:ph type="sldNum" idx="27"/>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14C28-1FD8-4906-ABF0-F3FE2B3A43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23949-65AE-487B-9EA4-19F23574BC4E}"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sp>
        <p:nvSpPr>
          <p:cNvPr id="587" name="PlaceHolder 1"/>
          <p:cNvSpPr>
            <a:spLocks noGrp="1"/>
          </p:cNvSpPr>
          <p:nvPr>
            <p:ph type="title"/>
          </p:nvPr>
        </p:nvSpPr>
        <p:spPr>
          <a:xfrm>
            <a:off x="990720" y="2209680"/>
            <a:ext cx="7772400" cy="1130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15f7b"/>
                </a:solidFill>
                <a:latin typeface="Tahoma"/>
              </a:rPr>
              <a:t>CHAPTER 1 -The History of Engineering</a:t>
            </a:r>
            <a:br>
              <a:rPr sz="3200"/>
            </a:br>
            <a:endParaRPr b="0" lang="en-US" sz="3200" spc="-1" strike="noStrike">
              <a:solidFill>
                <a:srgbClr val="515f7b"/>
              </a:solidFill>
              <a:latin typeface="Tahoma"/>
            </a:endParaRPr>
          </a:p>
        </p:txBody>
      </p:sp>
      <p:sp>
        <p:nvSpPr>
          <p:cNvPr id="58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E101</a:t>
            </a:r>
            <a:endParaRPr b="0" lang="en-US" sz="3600" spc="-1" strike="noStrike">
              <a:solidFill>
                <a:srgbClr val="000000"/>
              </a:solidFill>
              <a:latin typeface="Tahoma"/>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r. Nhut Tan Ho</a:t>
            </a:r>
            <a:endParaRPr b="0" lang="en-US" sz="3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1E920-F86D-4CE7-9486-59EB3CF67D1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700-1800</a:t>
            </a:r>
            <a:endParaRPr b="0" lang="en-US" sz="4400" spc="-1" strike="noStrike">
              <a:solidFill>
                <a:srgbClr val="515f7b"/>
              </a:solidFill>
              <a:latin typeface="Tahoma"/>
            </a:endParaRPr>
          </a:p>
        </p:txBody>
      </p:sp>
      <p:sp>
        <p:nvSpPr>
          <p:cNvPr id="615" name="PlaceHolder 2"/>
          <p:cNvSpPr>
            <a:spLocks noGrp="1"/>
          </p:cNvSpPr>
          <p:nvPr>
            <p:ph/>
          </p:nvPr>
        </p:nvSpPr>
        <p:spPr>
          <a:xfrm>
            <a:off x="1182600" y="2017800"/>
            <a:ext cx="7772400" cy="4114800"/>
          </a:xfrm>
          <a:prstGeom prst="rect">
            <a:avLst/>
          </a:prstGeom>
          <a:noFill/>
          <a:ln w="0">
            <a:noFill/>
          </a:ln>
        </p:spPr>
        <p:txBody>
          <a:bodyPr anchor="t">
            <a:normAutofit fontScale="92000"/>
          </a:bodyPr>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 Revolution begins in Europe</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ames Watt patents his first steam engine</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ociety of Engineers, a professional engineering society, is formed in London</a:t>
            </a:r>
            <a:endParaRPr b="0" lang="en-US" sz="3200" spc="-1" strike="noStrike">
              <a:solidFill>
                <a:srgbClr val="000000"/>
              </a:solidFill>
              <a:latin typeface="Tahoma"/>
            </a:endParaRPr>
          </a:p>
          <a:p>
            <a:pPr marL="315360" indent="-31536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building made completely of cast iron built in England</a:t>
            </a:r>
            <a:endParaRPr b="0" lang="en-US" sz="3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42AD8-5A82-4DA7-8499-30F73EFB71C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00-1825</a:t>
            </a:r>
            <a:endParaRPr b="0" lang="en-US" sz="4400" spc="-1" strike="noStrike">
              <a:solidFill>
                <a:srgbClr val="515f7b"/>
              </a:solidFill>
              <a:latin typeface="Tahoma"/>
            </a:endParaRPr>
          </a:p>
        </p:txBody>
      </p:sp>
      <p:sp>
        <p:nvSpPr>
          <p:cNvPr id="618"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chine automation is first introduced in France</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railroad locomotive is designed and manufactured</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symbols are developed, the same symbols used today (Au, He)</a:t>
            </a:r>
            <a:endParaRPr b="0" lang="en-US" sz="3200" spc="-1" strike="noStrike">
              <a:solidFill>
                <a:srgbClr val="000000"/>
              </a:solidFill>
              <a:latin typeface="Tahoma"/>
            </a:endParaRPr>
          </a:p>
          <a:p>
            <a:pPr marL="332640" indent="-3326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ngle wire telegraph line is developed</a:t>
            </a:r>
            <a:endParaRPr b="0" lang="en-US" sz="3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B5BA2-4D7A-49F4-9F97-5DB210DD98B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25-1875</a:t>
            </a:r>
            <a:endParaRPr b="0" lang="en-US" sz="4400" spc="-1" strike="noStrike">
              <a:solidFill>
                <a:srgbClr val="515f7b"/>
              </a:solidFill>
              <a:latin typeface="Tahoma"/>
            </a:endParaRPr>
          </a:p>
        </p:txBody>
      </p:sp>
      <p:sp>
        <p:nvSpPr>
          <p:cNvPr id="62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inforced concrete is first used</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synthetic plastic material is created</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semer develops his process to create stronger steel in mass quantities</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oil well drilled in Pennsylvania</a:t>
            </a:r>
            <a:endParaRPr b="0" lang="en-US" sz="3200" spc="-1" strike="noStrike">
              <a:solidFill>
                <a:srgbClr val="000000"/>
              </a:solidFill>
              <a:latin typeface="Tahoma"/>
            </a:endParaRPr>
          </a:p>
          <a:p>
            <a:pPr marL="329040" indent="-32904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ypewriter is perfected</a:t>
            </a:r>
            <a:endParaRPr b="0" lang="en-US" sz="3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7B78D-813B-4AAD-8B97-37800AD2549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875-1900</a:t>
            </a:r>
            <a:endParaRPr b="0" lang="en-US" sz="4400" spc="-1" strike="noStrike">
              <a:solidFill>
                <a:srgbClr val="515f7b"/>
              </a:solidFill>
              <a:latin typeface="Tahoma"/>
            </a:endParaRPr>
          </a:p>
        </p:txBody>
      </p:sp>
      <p:sp>
        <p:nvSpPr>
          <p:cNvPr id="6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lephone is patented in the US by Alexander Graham Bell</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omas Edison invents the light bulb and the phonograph</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asoline engine developed by Gottlieb Daimler</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utomobile introduced by Karl Benz</a:t>
            </a:r>
            <a:endParaRPr b="0" lang="en-US" sz="3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2AB8B-9B2C-482A-8FDA-B0063D49AF1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00-1925</a:t>
            </a:r>
            <a:endParaRPr b="0" lang="en-US" sz="4400" spc="-1" strike="noStrike">
              <a:solidFill>
                <a:srgbClr val="515f7b"/>
              </a:solidFill>
              <a:latin typeface="Tahoma"/>
            </a:endParaRPr>
          </a:p>
        </p:txBody>
      </p:sp>
      <p:sp>
        <p:nvSpPr>
          <p:cNvPr id="62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right brothers complete first sustained flight</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d develops first diesel engines in tractors</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commercial flight between Paris and London begins</a:t>
            </a:r>
            <a:endParaRPr b="0" lang="en-US" sz="3200" spc="-1" strike="noStrike">
              <a:solidFill>
                <a:srgbClr val="000000"/>
              </a:solidFill>
              <a:latin typeface="Tahoma"/>
            </a:endParaRPr>
          </a:p>
          <a:p>
            <a:pPr marL="325800" indent="-32580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troit becomes center of auto production industry</a:t>
            </a:r>
            <a:endParaRPr b="0" lang="en-US" sz="32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33D7-E7C9-497A-896C-27D48A63ACB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25-1950</a:t>
            </a:r>
            <a:endParaRPr b="0" lang="en-US" sz="4400" spc="-1" strike="noStrike">
              <a:solidFill>
                <a:srgbClr val="515f7b"/>
              </a:solidFill>
              <a:latin typeface="Tahoma"/>
            </a:endParaRPr>
          </a:p>
        </p:txBody>
      </p:sp>
      <p:sp>
        <p:nvSpPr>
          <p:cNvPr id="63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John Logie Baird invents a primitive form of television</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VW Beetle goes into production</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tomic bomb is us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transistor is invented</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70E8-3262-42A0-9CAF-CD527F4DA01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50-1975</a:t>
            </a:r>
            <a:endParaRPr b="0" lang="en-US" sz="4400" spc="-1" strike="noStrike">
              <a:solidFill>
                <a:srgbClr val="515f7b"/>
              </a:solidFill>
              <a:latin typeface="Tahoma"/>
            </a:endParaRPr>
          </a:p>
        </p:txBody>
      </p:sp>
      <p:sp>
        <p:nvSpPr>
          <p:cNvPr id="6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uters first introduced into the market, and are common by 1960</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putnik I, the first artificial satellite, put into space by USSR</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communication satellite—Telstar—is put into space</a:t>
            </a:r>
            <a:endParaRPr b="0" lang="en-US" sz="3200" spc="-1" strike="noStrike">
              <a:solidFill>
                <a:srgbClr val="000000"/>
              </a:solidFill>
              <a:latin typeface="Tahoma"/>
            </a:endParaRPr>
          </a:p>
          <a:p>
            <a:pPr marL="343080" indent="-34308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U.S. completes the first ever moon landing</a:t>
            </a:r>
            <a:endParaRPr b="0" lang="en-US" sz="32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801A6-BACC-47EA-8D9F-F0D498CF993F}"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75-1990</a:t>
            </a:r>
            <a:endParaRPr b="0" lang="en-US" sz="4400" spc="-1" strike="noStrike">
              <a:solidFill>
                <a:srgbClr val="515f7b"/>
              </a:solidFill>
              <a:latin typeface="Tahoma"/>
            </a:endParaRPr>
          </a:p>
        </p:txBody>
      </p:sp>
      <p:sp>
        <p:nvSpPr>
          <p:cNvPr id="6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oncord is first used for supersonic flight between Europe and the U.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lumbia space shuttle is reused for space travel</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rst artificial heart is successfully implanted</a:t>
            </a:r>
            <a:endParaRPr b="0" lang="en-US" sz="32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3A927-7458-4D08-A6AC-4E66828A374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3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990-Present</a:t>
            </a:r>
            <a:endParaRPr b="0" lang="en-US" sz="4400" spc="-1" strike="noStrike">
              <a:solidFill>
                <a:srgbClr val="515f7b"/>
              </a:solidFill>
              <a:latin typeface="Tahoma"/>
            </a:endParaRPr>
          </a:p>
        </p:txBody>
      </p:sp>
      <p:sp>
        <p:nvSpPr>
          <p:cNvPr id="6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obots travel on Mar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Chunnel” between England and France is finish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PS is used to predict and report weather conditions, as well as many other consumer applications</a:t>
            </a:r>
            <a:endParaRPr b="0" lang="en-US" sz="32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E513-BE97-44B6-97CD-E4392B08210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6 Case Study of Two Historic</a:t>
            </a:r>
            <a:br>
              <a:rPr sz="4400"/>
            </a:br>
            <a:r>
              <a:rPr b="0" lang="en-US" sz="4400" spc="-1" strike="noStrike">
                <a:solidFill>
                  <a:srgbClr val="515f7b"/>
                </a:solidFill>
                <a:latin typeface="Tahoma"/>
              </a:rPr>
              <a:t>Engineers</a:t>
            </a:r>
            <a:endParaRPr b="0" lang="en-US" sz="4400" spc="-1" strike="noStrike">
              <a:solidFill>
                <a:srgbClr val="515f7b"/>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onardo Da Vinci</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tenberg and His Printing Pres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873A-B78E-47F3-A146-59F522B46F6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Lecture Objectives &amp; Activities</a:t>
            </a:r>
            <a:endParaRPr b="0" lang="en-US" sz="4400" spc="-1" strike="noStrike">
              <a:solidFill>
                <a:srgbClr val="515f7b"/>
              </a:solidFill>
              <a:latin typeface="Tahoma"/>
            </a:endParaRPr>
          </a:p>
        </p:txBody>
      </p:sp>
      <p:sp>
        <p:nvSpPr>
          <p:cNvPr id="5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ore definition of Engineering</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vide an overview of history of discipline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e Learning Activities</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air-share discussion: Definition of engineer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mall group work: Engineering in an era</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D4BC-E6A0-4537-B13A-B7EB6AA077D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Work group of 4</a:t>
            </a:r>
            <a:endParaRPr b="0" lang="en-US" sz="4400" spc="-1" strike="noStrike">
              <a:solidFill>
                <a:srgbClr val="515f7b"/>
              </a:solidFill>
              <a:latin typeface="Tahoma"/>
            </a:endParaRPr>
          </a:p>
        </p:txBody>
      </p:sp>
      <p:sp>
        <p:nvSpPr>
          <p:cNvPr id="6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ay “get-to-know-your-classmates” game</a:t>
            </a:r>
            <a:endParaRPr b="0" lang="en-US" sz="2400" spc="-1" strike="noStrike">
              <a:solidFill>
                <a:srgbClr val="000000"/>
              </a:solidFill>
              <a:latin typeface="Tahoma"/>
            </a:endParaRPr>
          </a:p>
          <a:p>
            <a:pPr marL="343080" indent="-343080">
              <a:lnSpc>
                <a:spcPct val="80000"/>
              </a:lnSpc>
              <a:spcBef>
                <a:spcPts val="601"/>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ork together and explain what it would have been like to have been an engineer during</a:t>
            </a:r>
            <a:endParaRPr b="0" lang="en-US" sz="24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200 B.C.-A.D.1</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D. 1 – 1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000-14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400-17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700-18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800s-1900</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00-1975</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975-Present</a:t>
            </a:r>
            <a:endParaRPr b="0" lang="en-US" sz="2000" spc="-1" strike="noStrike">
              <a:solidFill>
                <a:srgbClr val="000000"/>
              </a:solidFill>
              <a:latin typeface="Tahoma"/>
            </a:endParaRPr>
          </a:p>
          <a:p>
            <a:pPr lvl="1" marL="743040" indent="-285840">
              <a:lnSpc>
                <a:spcPct val="80000"/>
              </a:lnSpc>
              <a:spcBef>
                <a:spcPts val="499"/>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020</a:t>
            </a:r>
            <a:endParaRPr b="0" lang="en-US" sz="2000" spc="-1" strike="noStrike">
              <a:solidFill>
                <a:srgbClr val="000000"/>
              </a:solidFill>
              <a:latin typeface="Tahom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6"/>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DA85F-F933-4653-882B-69BC9AB3EBF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The History of the Disciplines</a:t>
            </a:r>
            <a:endParaRPr b="0" lang="en-US" sz="4400" spc="-1" strike="noStrike">
              <a:solidFill>
                <a:srgbClr val="515f7b"/>
              </a:solidFill>
              <a:latin typeface="Tahoma"/>
            </a:endParaRPr>
          </a:p>
        </p:txBody>
      </p:sp>
      <p:sp>
        <p:nvSpPr>
          <p:cNvPr id="648" name="PlaceHolder 2"/>
          <p:cNvSpPr>
            <a:spLocks noGrp="1"/>
          </p:cNvSpPr>
          <p:nvPr>
            <p:ph/>
          </p:nvPr>
        </p:nvSpPr>
        <p:spPr>
          <a:xfrm>
            <a:off x="1182600" y="2017800"/>
            <a:ext cx="3811680" cy="4114800"/>
          </a:xfrm>
          <a:prstGeom prst="rect">
            <a:avLst/>
          </a:prstGeom>
          <a:noFill/>
          <a:ln w="0">
            <a:noFill/>
          </a:ln>
        </p:spPr>
        <p:txBody>
          <a:bodyPr anchor="t">
            <a:normAutofit/>
          </a:bodyPr>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erospace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gricultural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hemical Eng.</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ivil Eng.</a:t>
            </a:r>
            <a:endParaRPr b="0" lang="en-US" sz="2800" spc="-1" strike="noStrike">
              <a:solidFill>
                <a:srgbClr val="000000"/>
              </a:solidFill>
              <a:latin typeface="Tahoma"/>
            </a:endParaRPr>
          </a:p>
        </p:txBody>
      </p:sp>
      <p:sp>
        <p:nvSpPr>
          <p:cNvPr id="649" name="PlaceHolder 3"/>
          <p:cNvSpPr>
            <a:spLocks noGrp="1"/>
          </p:cNvSpPr>
          <p:nvPr>
            <p:ph/>
          </p:nvPr>
        </p:nvSpPr>
        <p:spPr>
          <a:xfrm>
            <a:off x="5143320" y="2017800"/>
            <a:ext cx="3811320" cy="4114800"/>
          </a:xfrm>
          <a:prstGeom prst="rect">
            <a:avLst/>
          </a:prstGeom>
          <a:noFill/>
          <a:ln w="0">
            <a:noFill/>
          </a:ln>
        </p:spPr>
        <p:txBody>
          <a:bodyPr anchor="t">
            <a:normAutofit/>
          </a:bodyPr>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er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al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Eng.</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chanical Eng.</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1A3FD-4979-4AED-88EF-E98972DA324A}"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1" name="PlaceHolder 1"/>
          <p:cNvSpPr>
            <a:spLocks noGrp="1"/>
          </p:cNvSpPr>
          <p:nvPr>
            <p:ph type="title"/>
          </p:nvPr>
        </p:nvSpPr>
        <p:spPr>
          <a:xfrm>
            <a:off x="1150560" y="375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Aerospace Engineering</a:t>
            </a:r>
            <a:endParaRPr b="0" lang="en-US" sz="4400" spc="-1" strike="noStrike">
              <a:solidFill>
                <a:srgbClr val="515f7b"/>
              </a:solidFill>
              <a:latin typeface="Tahoma"/>
            </a:endParaRPr>
          </a:p>
        </p:txBody>
      </p:sp>
      <p:sp>
        <p:nvSpPr>
          <p:cNvPr id="6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a:t>
            </a:r>
            <a:r>
              <a:rPr b="0" i="1" lang="en-US" sz="3200" spc="-1" strike="noStrike">
                <a:solidFill>
                  <a:srgbClr val="000000"/>
                </a:solidFill>
                <a:latin typeface="Tahoma"/>
              </a:rPr>
              <a:t>Aerospace engineering is concerned with engineering applications in the areas of aeronautics (the science of air flight) and astronautics (the science of space flight).</a:t>
            </a:r>
            <a:endParaRPr b="0" lang="en-US" sz="32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50565-7F37-40BC-A0C8-1269562C96D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4" name="PlaceHolder 1"/>
          <p:cNvSpPr>
            <a:spLocks noGrp="1"/>
          </p:cNvSpPr>
          <p:nvPr>
            <p:ph type="title"/>
          </p:nvPr>
        </p:nvSpPr>
        <p:spPr>
          <a:xfrm>
            <a:off x="1143000" y="609120"/>
            <a:ext cx="76960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a:t>
            </a:r>
            <a:r>
              <a:rPr b="0" lang="en-US" sz="4200" spc="-1" strike="noStrike">
                <a:solidFill>
                  <a:srgbClr val="515f7b"/>
                </a:solidFill>
                <a:latin typeface="Tahoma"/>
              </a:rPr>
              <a:t>Agricultural Engineering</a:t>
            </a:r>
            <a:endParaRPr b="0" lang="en-US" sz="4200" spc="-1" strike="noStrike">
              <a:solidFill>
                <a:srgbClr val="515f7b"/>
              </a:solidFill>
              <a:latin typeface="Tahoma"/>
            </a:endParaRPr>
          </a:p>
        </p:txBody>
      </p:sp>
      <p:sp>
        <p:nvSpPr>
          <p:cNvPr id="6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gricultural engineering focuses on:</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il and water</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ructures and environment</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ectrical power and process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od engineering</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and machinery</a:t>
            </a:r>
            <a:endParaRPr b="0" lang="en-US" sz="28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714D-67E0-44F6-B287-9B1FF827E268}"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57" name="PlaceHolder 1"/>
          <p:cNvSpPr>
            <a:spLocks noGrp="1"/>
          </p:cNvSpPr>
          <p:nvPr>
            <p:ph type="title"/>
          </p:nvPr>
        </p:nvSpPr>
        <p:spPr>
          <a:xfrm>
            <a:off x="1227240" y="375840"/>
            <a:ext cx="764064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hemical Engineering</a:t>
            </a:r>
            <a:endParaRPr b="0" lang="en-US" sz="4400" spc="-1" strike="noStrike">
              <a:solidFill>
                <a:srgbClr val="515f7b"/>
              </a:solidFill>
              <a:latin typeface="Tahoma"/>
            </a:endParaRPr>
          </a:p>
        </p:txBody>
      </p:sp>
      <p:sp>
        <p:nvSpPr>
          <p:cNvPr id="6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emical engineering applies chemistry to industrial processes, such as the manufacture of drugs, cements, paints, lubricants, and the like.</a:t>
            </a:r>
            <a:endParaRPr b="0" lang="en-US" sz="32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9FAE-F1C0-4D33-8829-68121FDF036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ivil Engineering</a:t>
            </a:r>
            <a:endParaRPr b="0" lang="en-US" sz="4400" spc="-1" strike="noStrike">
              <a:solidFill>
                <a:srgbClr val="515f7b"/>
              </a:solidFill>
              <a:latin typeface="Tahoma"/>
            </a:endParaRPr>
          </a:p>
        </p:txBody>
      </p:sp>
      <p:sp>
        <p:nvSpPr>
          <p:cNvPr id="6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ivil engineering focuses on structural issues, such as:</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ridges and Highway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kyscraper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Plants and Power Plant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hipping Facilities and Railroad Lines</a:t>
            </a:r>
            <a:endParaRPr b="0" lang="en-US" sz="28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ipelines, Gas Facilities, Canals</a:t>
            </a:r>
            <a:endParaRPr b="0" lang="en-US" sz="28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96A6-C357-48E9-A395-86693A8D4957}"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Computer and Electrical Engineering</a:t>
            </a:r>
            <a:endParaRPr b="0" lang="en-US" sz="4400" spc="-1" strike="noStrike">
              <a:solidFill>
                <a:srgbClr val="515f7b"/>
              </a:solidFill>
              <a:latin typeface="Tahoma"/>
            </a:endParaRPr>
          </a:p>
        </p:txBody>
      </p:sp>
      <p:sp>
        <p:nvSpPr>
          <p:cNvPr id="664" name="PlaceHolder 2"/>
          <p:cNvSpPr>
            <a:spLocks noGrp="1"/>
          </p:cNvSpPr>
          <p:nvPr>
            <p:ph/>
          </p:nvPr>
        </p:nvSpPr>
        <p:spPr>
          <a:xfrm>
            <a:off x="1447560" y="1981080"/>
            <a:ext cx="7280280" cy="3764160"/>
          </a:xfrm>
          <a:prstGeom prst="rect">
            <a:avLst/>
          </a:prstGeom>
          <a:noFill/>
          <a:ln w="0">
            <a:noFill/>
          </a:ln>
        </p:spPr>
        <p:txBody>
          <a:bodyPr anchor="t">
            <a:normAutofit fontScale="79000"/>
          </a:bodyPr>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world’s business is centered around computers, and their uses are only increasing</a:t>
            </a:r>
            <a:endParaRPr b="0" lang="en-US" sz="3200" spc="-1" strike="noStrike">
              <a:solidFill>
                <a:srgbClr val="000000"/>
              </a:solidFill>
              <a:latin typeface="Tahoma"/>
            </a:endParaRPr>
          </a:p>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lectrical is the largest branch of engineering</a:t>
            </a:r>
            <a:endParaRPr b="0" lang="en-US" sz="3200" spc="-1" strike="noStrike">
              <a:solidFill>
                <a:srgbClr val="000000"/>
              </a:solidFill>
              <a:latin typeface="Tahoma"/>
            </a:endParaRPr>
          </a:p>
          <a:p>
            <a:pPr marL="270720" indent="-270720">
              <a:lnSpc>
                <a:spcPct val="90000"/>
              </a:lnSpc>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volved in:</a:t>
            </a:r>
            <a:endParaRPr b="0" lang="en-US" sz="32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cation Systems </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puters and Automatic Controls</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wer Generation and Transmission</a:t>
            </a:r>
            <a:endParaRPr b="0" lang="en-US" sz="2800" spc="-1" strike="noStrike">
              <a:solidFill>
                <a:srgbClr val="000000"/>
              </a:solidFill>
              <a:latin typeface="Tahoma"/>
            </a:endParaRPr>
          </a:p>
          <a:p>
            <a:pPr lvl="1" marL="586800" indent="-225720">
              <a:lnSpc>
                <a:spcPct val="90000"/>
              </a:lnSpc>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dustrial Applications</a:t>
            </a:r>
            <a:endParaRPr b="0" lang="en-US" sz="28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0C235-AAAB-416E-B5D7-E15A253E48CD}"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6" name="PlaceHolder 1"/>
          <p:cNvSpPr>
            <a:spLocks noGrp="1"/>
          </p:cNvSpPr>
          <p:nvPr>
            <p:ph type="title"/>
          </p:nvPr>
        </p:nvSpPr>
        <p:spPr>
          <a:xfrm>
            <a:off x="1150560" y="375840"/>
            <a:ext cx="779292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7 History: Industrial Engineering</a:t>
            </a:r>
            <a:endParaRPr b="0" lang="en-US" sz="4400" spc="-1" strike="noStrike">
              <a:solidFill>
                <a:srgbClr val="515f7b"/>
              </a:solidFill>
              <a:latin typeface="Tahoma"/>
            </a:endParaRPr>
          </a:p>
        </p:txBody>
      </p:sp>
      <p:sp>
        <p:nvSpPr>
          <p:cNvPr id="66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dustrial engineers design, install, and improve systems that integrate people, materials, and machines to improve efficiency.</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F8149-41B0-4277-B63F-5E1EAB7ACBC2}"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69" name="PlaceHolder 1"/>
          <p:cNvSpPr>
            <a:spLocks noGrp="1"/>
          </p:cNvSpPr>
          <p:nvPr>
            <p:ph type="title"/>
          </p:nvPr>
        </p:nvSpPr>
        <p:spPr>
          <a:xfrm>
            <a:off x="1226880" y="375840"/>
            <a:ext cx="7716600" cy="1219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15f7b"/>
                </a:solidFill>
                <a:latin typeface="Tahoma"/>
              </a:rPr>
              <a:t>1.7 History: Mechanical Engineering</a:t>
            </a:r>
            <a:endParaRPr b="0" lang="en-US" sz="4000" spc="-1" strike="noStrike">
              <a:solidFill>
                <a:srgbClr val="515f7b"/>
              </a:solidFill>
              <a:latin typeface="Tahoma"/>
            </a:endParaRPr>
          </a:p>
        </p:txBody>
      </p:sp>
      <p:sp>
        <p:nvSpPr>
          <p:cNvPr id="6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eals with power, the generation of power, and the application of power to a variety of machines, ranging from HVAC to space vehicles.</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D6255-25DF-48F1-83C3-1EFE305DCFD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7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Lecture Recap: </a:t>
            </a:r>
            <a:br>
              <a:rPr sz="4400"/>
            </a:br>
            <a:r>
              <a:rPr b="0" lang="en-US" sz="4400" spc="-1" strike="noStrike">
                <a:solidFill>
                  <a:srgbClr val="515f7b"/>
                </a:solidFill>
                <a:latin typeface="Tahoma"/>
              </a:rPr>
              <a:t>Engineering History</a:t>
            </a:r>
            <a:endParaRPr b="0" lang="en-US" sz="4400" spc="-1" strike="noStrike">
              <a:solidFill>
                <a:srgbClr val="515f7b"/>
              </a:solidFill>
              <a:latin typeface="Tahoma"/>
            </a:endParaRPr>
          </a:p>
        </p:txBody>
      </p:sp>
      <p:sp>
        <p:nvSpPr>
          <p:cNvPr id="6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 continuum: new innovations stand on shoulders of those who’ve gone befor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s are professionals/leaders</a:t>
            </a:r>
            <a:endParaRPr b="0" lang="en-US" sz="3200" spc="-1" strike="noStrike">
              <a:solidFill>
                <a:srgbClr val="000000"/>
              </a:solidFill>
              <a:latin typeface="Tahoma"/>
            </a:endParaRPr>
          </a:p>
          <a:p>
            <a:pPr lvl="2" marL="1143000" indent="-228600">
              <a:spcBef>
                <a:spcPts val="601"/>
              </a:spcBef>
              <a:buClr>
                <a:srgbClr val="515f7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ed to understand origin of profession</a:t>
            </a:r>
            <a:endParaRPr b="0" lang="en-US" sz="2400" spc="-1" strike="noStrike">
              <a:solidFill>
                <a:srgbClr val="000000"/>
              </a:solidFill>
              <a:latin typeface="Tahoma"/>
            </a:endParaRPr>
          </a:p>
          <a:p>
            <a:pPr lvl="2" marL="1143000" indent="-228600">
              <a:spcBef>
                <a:spcPts val="601"/>
              </a:spcBef>
              <a:buClr>
                <a:srgbClr val="515f7b"/>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udy history helps understand good qualities of the past, and create new futures</a:t>
            </a:r>
            <a:endParaRPr b="0" lang="en-US" sz="2400" spc="-1" strike="noStrike">
              <a:solidFill>
                <a:srgbClr val="000000"/>
              </a:solidFill>
              <a:latin typeface="Tahoma"/>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D90F3-0B39-4146-9879-F3E66345C6B0}"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1 Introduction</a:t>
            </a:r>
            <a:endParaRPr b="0" lang="en-US" sz="4400" spc="-1" strike="noStrike">
              <a:solidFill>
                <a:srgbClr val="515f7b"/>
              </a:solidFill>
              <a:latin typeface="Tahoma"/>
            </a:endParaRPr>
          </a:p>
        </p:txBody>
      </p:sp>
      <p:sp>
        <p:nvSpPr>
          <p:cNvPr id="59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Definition of Engineering</a:t>
            </a:r>
            <a:endParaRPr b="0" lang="en-US" sz="3200" spc="-1" strike="noStrike">
              <a:solidFill>
                <a:srgbClr val="000000"/>
              </a:solidFill>
              <a:latin typeface="Tahoma"/>
            </a:endParaRPr>
          </a:p>
          <a:p>
            <a:pPr lvl="1" marL="743040" indent="-2858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rofession in which knowledge of the mathematical and natural sciences, gained by study, experience, and practice, is applied with judgment to develop ways to use, economically, the materials and forces of nature for the benefit of mankind.</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7644A-2B97-4728-BA59-2E69C4359A3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2 Getting Started</a:t>
            </a:r>
            <a:endParaRPr b="0" lang="en-US" sz="4400" spc="-1" strike="noStrike">
              <a:solidFill>
                <a:srgbClr val="515f7b"/>
              </a:solidFill>
              <a:latin typeface="Tahoma"/>
            </a:endParaRPr>
          </a:p>
        </p:txBody>
      </p:sp>
      <p:sp>
        <p:nvSpPr>
          <p:cNvPr id="5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ehistoric Cultur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ur Computer Ag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Speed of History</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Quick Overview</a:t>
            </a:r>
            <a:endParaRPr b="0" lang="en-US" sz="32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E61C6-C114-44DD-B9C6-49657006BA61}"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59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4 The Overview Approach</a:t>
            </a:r>
            <a:endParaRPr b="0" lang="en-US" sz="4400" spc="-1" strike="noStrike">
              <a:solidFill>
                <a:srgbClr val="515f7b"/>
              </a:solidFill>
              <a:latin typeface="Tahoma"/>
            </a:endParaRPr>
          </a:p>
        </p:txBody>
      </p:sp>
      <p:sp>
        <p:nvSpPr>
          <p:cNvPr id="6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ngineering the Temples of Greece</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oman Roads and Aqueduct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Great Wall of China</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392CC-EEAF-44B3-9E61-B65C2D99CE2E}"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a:t>
            </a:r>
            <a:endParaRPr b="0" lang="en-US" sz="4400" spc="-1" strike="noStrike">
              <a:solidFill>
                <a:srgbClr val="515f7b"/>
              </a:solidFill>
              <a:latin typeface="Tahoma"/>
            </a:endParaRPr>
          </a:p>
        </p:txBody>
      </p:sp>
      <p:sp>
        <p:nvSpPr>
          <p:cNvPr id="603" name="PlaceHolder 2"/>
          <p:cNvSpPr>
            <a:spLocks noGrp="1"/>
          </p:cNvSpPr>
          <p:nvPr>
            <p:ph/>
          </p:nvPr>
        </p:nvSpPr>
        <p:spPr>
          <a:xfrm>
            <a:off x="1182600" y="2017800"/>
            <a:ext cx="7772400" cy="4114800"/>
          </a:xfrm>
          <a:prstGeom prst="rect">
            <a:avLst/>
          </a:prstGeom>
          <a:noFill/>
          <a:ln w="0">
            <a:noFill/>
          </a:ln>
        </p:spPr>
        <p:txBody>
          <a:bodyPr anchor="t">
            <a:normAutofit fontScale="90000"/>
          </a:bodyPr>
          <a:p>
            <a:pPr marL="308520" indent="-30852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200 B.C. – A.D. 1</a:t>
            </a:r>
            <a:endParaRPr b="0" lang="en-US" sz="32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Quality of wrought iron is improv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words are mass produc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ege towers are perfected</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reeks develop manufacturing</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rchimedes introduces mathematics in Greece</a:t>
            </a:r>
            <a:endParaRPr b="0" lang="en-US" sz="2800" spc="-1" strike="noStrike">
              <a:solidFill>
                <a:srgbClr val="000000"/>
              </a:solidFill>
              <a:latin typeface="Tahoma"/>
            </a:endParaRPr>
          </a:p>
          <a:p>
            <a:pPr lvl="1" marL="668520" indent="-257040">
              <a:spcBef>
                <a:spcPts val="700"/>
              </a:spcBef>
              <a:buClr>
                <a:srgbClr val="9fcad3"/>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rete is used for arched bridges, roads and aqueducts in Rome.</a:t>
            </a:r>
            <a:endParaRPr b="0" lang="en-US" sz="2800" spc="-1" strike="noStrike">
              <a:solidFill>
                <a:srgbClr val="00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CD95-C896-4324-A6FB-394C8937F0F4}"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A.D. 1-1000</a:t>
            </a:r>
            <a:endParaRPr b="0" lang="en-US" sz="4400" spc="-1" strike="noStrike">
              <a:solidFill>
                <a:srgbClr val="515f7b"/>
              </a:solidFill>
              <a:latin typeface="Tahoma"/>
            </a:endParaRPr>
          </a:p>
        </p:txBody>
      </p:sp>
      <p:sp>
        <p:nvSpPr>
          <p:cNvPr id="60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hinese further develop the study of mathematics</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Gunpowder is perfected</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tton and silk manufactured</a:t>
            </a:r>
            <a:endParaRPr b="0" lang="en-US" sz="3200" spc="-1" strike="noStrike">
              <a:solidFill>
                <a:srgbClr val="000000"/>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D250-6B2F-4441-9C68-CB84ECFBE5CC}"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0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000-1400</a:t>
            </a:r>
            <a:endParaRPr b="0" lang="en-US" sz="4400" spc="-1" strike="noStrike">
              <a:solidFill>
                <a:srgbClr val="515f7b"/>
              </a:solidFill>
              <a:latin typeface="Tahoma"/>
            </a:endParaRPr>
          </a:p>
        </p:txBody>
      </p:sp>
      <p:sp>
        <p:nvSpPr>
          <p:cNvPr id="6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lk and glass industries continue to grow</a:t>
            </a:r>
            <a:endParaRPr b="0" lang="en-US" sz="3200" spc="-1" strike="noStrike">
              <a:solidFill>
                <a:srgbClr val="000000"/>
              </a:solidFill>
              <a:latin typeface="Tahoma"/>
            </a:endParaRPr>
          </a:p>
          <a:p>
            <a:pPr marL="343080" indent="-343080">
              <a:spcBef>
                <a:spcPts val="799"/>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eonardo Fibinacci, a medieval mathematician, writes the first Western text on algebra</a:t>
            </a:r>
            <a:endParaRPr b="0" lang="en-US" sz="32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Slide Number Placeholder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4670-102F-4962-81B0-EEFD71059EA5}"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6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15f7b"/>
                </a:solidFill>
                <a:latin typeface="Tahoma"/>
              </a:rPr>
              <a:t>1.5 Traveling Through the Ages: 1400-1700</a:t>
            </a:r>
            <a:endParaRPr b="0" lang="en-US" sz="4400" spc="-1" strike="noStrike">
              <a:solidFill>
                <a:srgbClr val="515f7b"/>
              </a:solidFill>
              <a:latin typeface="Tahoma"/>
            </a:endParaRPr>
          </a:p>
        </p:txBody>
      </p:sp>
      <p:sp>
        <p:nvSpPr>
          <p:cNvPr id="612"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rst toilet is invented in England</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alileo constructs a series of telescopes, with which he observes the rotation about the sun</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tto von Guerick first demonstrates the existence of a vacuum</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ssac Newton constructs first reflecting telescopes</a:t>
            </a:r>
            <a:endParaRPr b="0" lang="en-US" sz="2800" spc="-1" strike="noStrike">
              <a:solidFill>
                <a:srgbClr val="000000"/>
              </a:solidFill>
              <a:latin typeface="Tahoma"/>
            </a:endParaRPr>
          </a:p>
          <a:p>
            <a:pPr marL="329040" indent="-329040">
              <a:lnSpc>
                <a:spcPct val="90000"/>
              </a:lnSpc>
              <a:spcBef>
                <a:spcPts val="700"/>
              </a:spcBef>
              <a:buClr>
                <a:srgbClr val="91afb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oyle’s Gas Law, stating pressure varies inversely with volume, is first introduced.</a:t>
            </a:r>
            <a:endParaRPr b="0" lang="en-US" sz="2800" spc="-1" strike="noStrike">
              <a:solidFill>
                <a:srgbClr val="000000"/>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6T21:00:08Z</dcterms:created>
  <dc:creator>Vicki</dc:creator>
  <dc:description/>
  <dc:language>en-US</dc:language>
  <cp:lastModifiedBy>walmart</cp:lastModifiedBy>
  <dcterms:modified xsi:type="dcterms:W3CDTF">2014-03-21T12:05:05Z</dcterms:modified>
  <cp:revision>409</cp:revision>
  <dc:subject/>
  <dc:title>ENGINEERING YOUR FUTURE</dc:title>
</cp:coreProperties>
</file>